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85F-E9A8-497B-A7A7-79BFE6F4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B7C-7C6C-4E89-A646-5B304699A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5F5-BCF1-444B-BF14-9C856DA5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23B-C5DF-42D5-8062-ECAAB92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FEA-BC34-44D2-A088-8A88E01D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879-7BFB-4339-A7ED-9451E414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087-8CB5-4409-A385-5247628F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9FA-9176-4B3A-90D8-1081696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60B-FF11-4F16-B556-9AADEDC8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D23-4C92-47C4-8B47-B2858782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34F-681D-4AC7-96B4-84BFB7DF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877-0194-4B95-ACA4-A4F2AD0D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852-4A5E-454E-A652-23D0EF5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80A-8D3C-4CB3-93CE-84246C7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E9F-40F4-499B-9AB4-40BE437C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un nina hambriento.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5:59Z</dcterms:modified>
  <cp:revision>105</cp:revision>
  <dc:subject/>
  <dc:title>Profile</dc:title>
</cp:coreProperties>
</file>